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11A45-D20B-48EF-B7CB-A2E3A1A342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1BC8797-5063-4148-B526-8C53ECB06E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12AD4D03-FEFB-4649-93C7-4D65422368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C71F987F-BA02-43EA-9572-47FB55EA58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9CB3D6-4C87-4B0C-AE59-B175DE9FB0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9DE6BBE-A391-43FB-9218-D5FDAECCBB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D5CE2CD-752B-44FF-A958-147CB22C01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7F3F4D7-D461-4E1C-967B-91B6464AC4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A935D65C-1F6C-4D2A-8C49-5B3BB7B1B5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F8332479-D6D9-48F2-A9C6-5AD7914D08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CDB0CF2-D367-48F3-A9E8-221A259CA2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93D3A5C-9562-4A92-8D2D-788D453F55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806E873-CED1-4D3B-B9A6-05A0FF0BFE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6B47BAF-0726-40A7-ABDC-DFA4C70AA6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8654A98-6876-4B74-8EF4-98FDD4CD8C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FC4ECBB-3A81-4B79-A521-30D20FBFCB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AF561240-FA6B-41CF-8113-47775DA649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80B5EE5-593C-424C-85E9-48C6B75364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7AC6BD1-CED8-4586-9523-E7B036E078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2473070B-BB6D-49D7-80A2-AF9C5C58C8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156A20D-1ADF-4816-B0FA-0C9E51A303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AFB12FB-28D9-4005-A1E3-11E5BC31CB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2062455-EB15-49D8-A35C-4F65D7A4A0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22FB3F6-E3A9-4D9C-B7A5-9E0AB52543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850C-86FF-4360-9319-85C39AC958E3}"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E374-0347-44F2-BD83-C877ADA7E50F}"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kvo.org/wiki/index.php/Portal:Water" TargetMode="External"/><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ustainable development</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ll about water</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D87CD22-17CC-4792-A911-593115A6FB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84"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ccess to safe water is critical to economies and ecosystems, too, and a scarcity of safe water can directly affect long-term prospects for sustainable development.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ithout an adequate water supply, factories that depend on water may have to close temporarily; crop yields may decline; sick workers may be unproductive; fisheries may be destroy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destruction of aquatic life not only cuts into the economy, but also damages the ecosystem.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F7B82C6-C8E5-4031-AE2D-1E1003FA62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86"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ddition, lack of a reliable system of piped water can prompt people to sink their own wells and deplete the fresh water supply.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ir quality can also be affected by shortages of safe wate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people boil household water to kill dangerous bacteria, the fuel they burn can pollute the ai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when they use wood or charcoal as their source of fuel, forests can be destroyed causing additional environmental problems, including erosion and loss of top soil.</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E5D05B6-FD40-471E-9FCE-85720937E0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18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ide from the fact that some regions of the world are naturally arid, the increasing, often competing demands for water are cutting into the global supply.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any rivers and watersheds are polluted by industrial, agricultural, and human waste products, while others are drying up because people are using the water faster than nature can replenish i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reas with heavy rainfall or irrigation systems, people may waste water because it seems plentiful or cheap, ignoring how much it costs to treat the water after it is us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879DAEC-F950-4CA2-BC82-1F20F99221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79280" y="836280"/>
            <a:ext cx="8640720" cy="3600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etting water is more difficult—and often more expensive—for the poorest peopl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rural areas of developing countries, many women and children spend hours—in extreme cases up to               six to eight hours—each day hauling water from rivers or  well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cities, the poor often do not have water piped to their property; instead, they must buy or take water from other source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eople buying water from other sources may have to pay three to ten times what piped water costs in an area.</a:t>
            </a:r>
            <a:endParaRPr b="0" lang="en-US" sz="2400" spc="-1" strike="noStrike">
              <a:solidFill>
                <a:srgbClr val="006699"/>
              </a:solidFill>
              <a:latin typeface="Comic Sans MS"/>
            </a:endParaRPr>
          </a:p>
        </p:txBody>
      </p:sp>
      <p:sp>
        <p:nvSpPr>
          <p:cNvPr id="190"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191" name=""/>
          <p:cNvSpPr/>
          <p:nvPr/>
        </p:nvSpPr>
        <p:spPr>
          <a:xfrm>
            <a:off x="684360" y="4724280"/>
            <a:ext cx="223200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ources of Water in Maputo, Mozambique, 1996</a:t>
            </a: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92" name="" descr=""/>
          <p:cNvPicPr/>
          <p:nvPr/>
        </p:nvPicPr>
        <p:blipFill>
          <a:blip r:embed="rId5"/>
          <a:stretch/>
        </p:blipFill>
        <p:spPr>
          <a:xfrm>
            <a:off x="3276720" y="4365720"/>
            <a:ext cx="5118120" cy="2206440"/>
          </a:xfrm>
          <a:prstGeom prst="rect">
            <a:avLst/>
          </a:prstGeom>
          <a:ln w="0">
            <a:noFill/>
          </a:ln>
        </p:spPr>
      </p:pic>
      <p:sp>
        <p:nvSpPr>
          <p:cNvPr id="4" name="PlaceHolder 3"/>
          <p:cNvSpPr>
            <a:spLocks noGrp="1"/>
          </p:cNvSpPr>
          <p:nvPr>
            <p:ph type="sldNum" idx="1"/>
          </p:nvPr>
        </p:nvSpPr>
        <p:spPr/>
        <p:txBody>
          <a:bodyPr/>
          <a:p>
            <a:fld id="{9FEE9B9C-98EF-4047-907F-245EBFFD56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afe water is becoming scarce</a:t>
            </a:r>
            <a:endParaRPr b="0" lang="en-US" sz="4000" spc="-1" strike="noStrike">
              <a:solidFill>
                <a:srgbClr val="006666"/>
              </a:solidFill>
              <a:latin typeface="Comic Sans MS"/>
            </a:endParaRPr>
          </a:p>
        </p:txBody>
      </p:sp>
      <p:sp>
        <p:nvSpPr>
          <p:cNvPr id="19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reover, the rapid growth of cities throughout the world can strain the capacity of governments to provide adequate sanitary facilities, leaving inhabitants, especially the poor, to live amid unhealthy open sewage ditch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treated sewage also tends to contaminate the water reserves closest to the cities, forcing communities to pipe water from further and further away as cities expand.</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dustrial countries also are increasingly concerned about water quality and availabilit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these countries have stronger economies and greater capacity to collect, clean, and deliver water to citizens, per capita water consumption can be high as people wash cars, water lawns, and turn deserts into farmland, towns, and cit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spend enormous amounts of money cleaning up water polluted by industrial wast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A4714AC-ABE0-42AB-8B6E-0E29C9279A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nsuring that people have an adequate supply of safe water involves an often complex mixture of social, economic, and environmental issu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recent years, people, industries, farmers, and governments have begun to acknowledge that water is an economic good, not a "free" limitless resour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as an economic good, there is a wide range in the quality and level of water delivery and sanitation services that people want and are willing to pay fo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0848C48-76AB-4368-9501-DCC3F1C679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198"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xperience from around the globe shows that when people, even the poorest, have a choice in the quality of their water supply and sanitation services, they often are willing to pay a higher price to get higher quality.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example, people who are unwilling to pay for operating and maintaining low quality hand pumps and pit latrines may be willing to pay more to get a basic system of piped water and sewers that works fairly and efficientl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4BBBCB6-06BD-4D8D-A7F1-5624A24576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realities of supply and demand</a:t>
            </a:r>
            <a:endParaRPr b="0" lang="en-US" sz="3600" spc="-1" strike="noStrike">
              <a:solidFill>
                <a:srgbClr val="006666"/>
              </a:solidFill>
              <a:latin typeface="Comic Sans MS"/>
            </a:endParaRPr>
          </a:p>
        </p:txBody>
      </p:sp>
      <p:sp>
        <p:nvSpPr>
          <p:cNvPr id="200"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 the other hand, households and industries are not always willing to pay for higher quality services if they feel that what they are receiving is already good enough.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some coastal communities in the United States have refused to pay for what they perceive to be unnecessary and expensive sewage treatment even though it is required by federal law for environmental protec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end, it appears that when members of a community—households, factories, farmers, and businesses, together with scientists and policy makers—all participate in making decisions about the most feasible system of supplying safe water and sanitation, everyone tends to be more satisfied with the quality and price of these servic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9445FDB-C444-4C7D-9FAE-A9E69685B5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0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 not good at talking in front of a group of people. I'm a farmer and spend my days in the field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ork is often solitary, but I like it. So when Father Rodriguez asked me to speak to the congregation in a neighbouring village and answer questions, I was very nervou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 wanted me to talk about the water problem in my villag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re my wife and I live with our baby son it is high and arid like it is here; we don't have electricity either, and we share some of the same health problems, like diarrhoea, scabies, and respiratory infectio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unlike my village, this one doesn't have covered wells and hand pum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before last year, we didn't have them eith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heard the priest call my nam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A3583F9-0B0C-475E-89E2-13848CE365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0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y strangers were staring at me. My knees started to shake and I almost sat down again-until I remembered Juanit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name is Miguel Sanchez," I whisper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own voice sounded strange in my ears. I cleared my throa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ve come from the neighbouring village over the mountain to talk to you about water," I beg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congregation turned to each other in confusion. I could see the question marks stamped on their faces. Water? They seemed to be asking each other. Holy wat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wo years ago my first child, Juanita, was born. She was a beautiful baby who looked just like her mother. She was chubby and happy with dark shining eyes. But after my daughter was weaned she started to get sick. She frequently had diarrhoea and stopped gaining weight. The last time Juanita was sick, my wife made sure that she had plenty of well water to drink so that she would not become dehydrated. But it didn't seem to make her better and then, only a week later, she di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wife and I were heartbroken, but we weren't the only ones who had lost loved ones. Other children in our village, and some older people with the same sickness, had died.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63DB4D8D-B16F-4234-B5A6-EB9292A55A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id You Know?</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dult human body is about 50 to 65 percent water. A child’s body is approximately 75 percent water. The human brain is about 75 percent wat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ile the human body can live for weeks without food, it can only survive a few days without wat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220 million urban residents in the developing world lack a source of safe drinking water near their hom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inety percent of urban sewage in the developing world is discharged into rivers, lakes, and coastal water ways without any treatmen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griculture consumes 60 to 80 percent of the fresh water resources in most countries, and as much as 90 percent in other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A4B1F31-87EE-421E-8231-B4754E159F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0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Soon after Juanita died, the school teacher in our village heard about a new water system in a nearby town, and invited the people who helped them build it to come visit us.”</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 “</a:t>
            </a:r>
            <a:r>
              <a:rPr b="0" lang="en-US" sz="2000" spc="-1" strike="noStrike">
                <a:solidFill>
                  <a:srgbClr val="006699"/>
                </a:solidFill>
                <a:latin typeface="Comic Sans MS"/>
              </a:rPr>
              <a:t>Some engineers and health care workers came to our village and tested our well water and river water and found that both sources were polluted with bacteri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Because the water was contaminated and we hadn't boiled it, the water we had been giving our daughter had been making her diarrhoea wors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We thought we were helping her, but we had just made her sick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families came together and decided to work with the water project people to improve the water suppl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health care worker told us the bacteria comes from animal and human waste on the ground that washes into the well and the river when the rains come. The bacteria infects the water and makes it dangerous to drink and to wash with.”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a:r>
            <a:r>
              <a:rPr b="0" lang="en-US" sz="2000" spc="-1" strike="noStrike">
                <a:solidFill>
                  <a:srgbClr val="006699"/>
                </a:solidFill>
                <a:latin typeface="Comic Sans MS"/>
              </a:rPr>
              <a:t>The engineers explained how to build stronger well walls out of sand and mortar and how to build covers to protect the well water.”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04570F1F-7F5A-41A1-94B9-FA4482CD0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y helped us pick the best spot to dig the new well.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t least one person from each family—men and women—had a job to do on the water committee, some ordering parts, others digging the well, others learning how to repair the pump.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gineers trained each of us in different areas and taught us how to manage the well on our ow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 am good at working with my hands—I was in charge of laying the stone foundation for our chapel—so they trained me to do the masonry work.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ith help from the other men, we dug a new hole for the well, poured the cement and lime mixture, covered the well, and installed the hand pump.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school teacher taught the villagers how to become healthier by washing our hands and fruits and vegetables with clean water before eating and how to store clean water safely so that it doesn't become contaminated. He also taught us to boil our water before drinking it to be sure it is safe.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CCED60E7-19FE-4895-9D7C-E7149431C8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Water Problem in My Village, </a:t>
            </a:r>
            <a:r>
              <a:rPr b="1" i="1" lang="en-US" sz="3600" spc="-1" strike="noStrike">
                <a:solidFill>
                  <a:srgbClr val="006666"/>
                </a:solidFill>
                <a:latin typeface="Comic Sans MS"/>
              </a:rPr>
              <a:t>Bolivia</a:t>
            </a:r>
            <a:endParaRPr b="0" lang="en-US" sz="3600" spc="-1" strike="noStrike">
              <a:solidFill>
                <a:srgbClr val="006666"/>
              </a:solidFill>
              <a:latin typeface="Comic Sans MS"/>
            </a:endParaRPr>
          </a:p>
        </p:txBody>
      </p:sp>
      <p:sp>
        <p:nvSpPr>
          <p:cNvPr id="21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Now all of us in the village take turns being in charge of maintaining the well and hand pump and replacing parts so it doesn't break dow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 take responsibility for the well, and we don't have to rely on outside help to keep it going. The longest we have gone without clean water in the last year has been just three days while we were waiting for a par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ven though my wife still has to carry the water from the well to our house, most days we not only have enough safe water to drink, but also enough to wash more often—and fewer people have been sick.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t's too late for our daughter Juanita, but now my wife and I feel that we have more to offer our son, and we are expecting another child in the spring.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ather Rodriguez asked me to talk to you so that you would know what I had lost and now what my whole village has gain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ike the people of my village, you can work together to have better water and healthier lives."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8295D8B9-3D29-40B7-97B7-4109B25D89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an you answer these?</a:t>
            </a:r>
            <a:endParaRPr b="0" lang="en-US" sz="4000" spc="-1" strike="noStrike">
              <a:solidFill>
                <a:srgbClr val="006666"/>
              </a:solidFill>
              <a:latin typeface="Comic Sans MS"/>
            </a:endParaRPr>
          </a:p>
        </p:txBody>
      </p:sp>
      <p:sp>
        <p:nvSpPr>
          <p:cNvPr id="212"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9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a:t>
            </a:r>
            <a:r>
              <a:rPr b="0" lang="en-US" sz="3200" spc="-1" strike="noStrike">
                <a:solidFill>
                  <a:srgbClr val="006699"/>
                </a:solidFill>
                <a:latin typeface="Comic Sans MS"/>
              </a:rPr>
              <a:t>What are some of the health problems shared by these villages? Which might be related to the lack of safe wat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How is it that people die of diarrhoea? (and cholera)</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How do higher well walls and covers help to protect the wat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4. What training did the villagers receive as part of their water project?</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5. Why didn't the people from the water project dig the wells and install the hand pumps themselv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666EC89-83FA-46B0-871D-CFADDD20FE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omic Sans MS"/>
              </a:rPr>
              <a:t>SODIS</a:t>
            </a:r>
            <a:endParaRPr b="1" lang="en-US" sz="4800" spc="-1" strike="noStrike">
              <a:solidFill>
                <a:srgbClr val="006666"/>
              </a:solidFill>
              <a:latin typeface="Comic Sans MS"/>
            </a:endParaRPr>
          </a:p>
        </p:txBody>
      </p:sp>
      <p:sp>
        <p:nvSpPr>
          <p:cNvPr id="21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So</a:t>
            </a:r>
            <a:r>
              <a:rPr b="1" lang="en-US" sz="3200" spc="-1" strike="noStrike">
                <a:solidFill>
                  <a:srgbClr val="006699"/>
                </a:solidFill>
                <a:latin typeface="Comic Sans MS"/>
              </a:rPr>
              <a:t>lar Water </a:t>
            </a:r>
            <a:r>
              <a:rPr b="1" lang="en-US" sz="3200" spc="-1" strike="noStrike">
                <a:solidFill>
                  <a:srgbClr val="cc0000"/>
                </a:solidFill>
                <a:latin typeface="Comic Sans MS"/>
              </a:rPr>
              <a:t>Dis</a:t>
            </a:r>
            <a:r>
              <a:rPr b="1" lang="en-US" sz="3200" spc="-1" strike="noStrike">
                <a:solidFill>
                  <a:srgbClr val="006699"/>
                </a:solidFill>
                <a:latin typeface="Comic Sans MS"/>
              </a:rPr>
              <a:t>infection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2C9F703-03D6-4912-9B9E-1847D22C85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28520" y="476280"/>
            <a:ext cx="4413240" cy="5929200"/>
          </a:xfrm>
          <a:prstGeom prst="rect">
            <a:avLst/>
          </a:prstGeom>
          <a:ln w="0">
            <a:noFill/>
          </a:ln>
        </p:spPr>
      </p:pic>
      <p:pic>
        <p:nvPicPr>
          <p:cNvPr id="216" name="" descr=""/>
          <p:cNvPicPr/>
          <p:nvPr/>
        </p:nvPicPr>
        <p:blipFill>
          <a:blip r:embed="rId2"/>
          <a:stretch/>
        </p:blipFill>
        <p:spPr>
          <a:xfrm>
            <a:off x="4500720" y="476280"/>
            <a:ext cx="4365360" cy="5894280"/>
          </a:xfrm>
          <a:prstGeom prst="rect">
            <a:avLst/>
          </a:prstGeom>
          <a:ln w="0">
            <a:noFill/>
          </a:ln>
        </p:spPr>
      </p:pic>
      <p:sp>
        <p:nvSpPr>
          <p:cNvPr id="2" name="PlaceHolder 1"/>
          <p:cNvSpPr>
            <a:spLocks noGrp="1"/>
          </p:cNvSpPr>
          <p:nvPr>
            <p:ph type="sldNum" idx="1"/>
          </p:nvPr>
        </p:nvSpPr>
        <p:spPr/>
        <p:txBody>
          <a:bodyPr/>
          <a:p>
            <a:fld id="{0120BE0A-A743-42DC-8D68-1A40D1E7A1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4920" y="549360"/>
            <a:ext cx="4483080" cy="6021360"/>
          </a:xfrm>
          <a:prstGeom prst="rect">
            <a:avLst/>
          </a:prstGeom>
          <a:ln w="0">
            <a:noFill/>
          </a:ln>
        </p:spPr>
      </p:pic>
      <p:pic>
        <p:nvPicPr>
          <p:cNvPr id="218" name="" descr=""/>
          <p:cNvPicPr/>
          <p:nvPr/>
        </p:nvPicPr>
        <p:blipFill>
          <a:blip r:embed="rId2"/>
          <a:stretch/>
        </p:blipFill>
        <p:spPr>
          <a:xfrm>
            <a:off x="4500720" y="549360"/>
            <a:ext cx="4511520" cy="5983200"/>
          </a:xfrm>
          <a:prstGeom prst="rect">
            <a:avLst/>
          </a:prstGeom>
          <a:ln w="0">
            <a:noFill/>
          </a:ln>
        </p:spPr>
      </p:pic>
      <p:sp>
        <p:nvSpPr>
          <p:cNvPr id="2" name="PlaceHolder 1"/>
          <p:cNvSpPr>
            <a:spLocks noGrp="1"/>
          </p:cNvSpPr>
          <p:nvPr>
            <p:ph type="sldNum" idx="1"/>
          </p:nvPr>
        </p:nvSpPr>
        <p:spPr/>
        <p:txBody>
          <a:bodyPr/>
          <a:p>
            <a:fld id="{66BD1D65-47B7-41BF-88F3-C83EEC7586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9280" y="549360"/>
            <a:ext cx="4403880" cy="5987880"/>
          </a:xfrm>
          <a:prstGeom prst="rect">
            <a:avLst/>
          </a:prstGeom>
          <a:ln w="0">
            <a:noFill/>
          </a:ln>
        </p:spPr>
      </p:pic>
      <p:pic>
        <p:nvPicPr>
          <p:cNvPr id="220" name="" descr=""/>
          <p:cNvPicPr/>
          <p:nvPr/>
        </p:nvPicPr>
        <p:blipFill>
          <a:blip r:embed="rId2"/>
          <a:stretch/>
        </p:blipFill>
        <p:spPr>
          <a:xfrm>
            <a:off x="4572000" y="549360"/>
            <a:ext cx="4413240" cy="5973840"/>
          </a:xfrm>
          <a:prstGeom prst="rect">
            <a:avLst/>
          </a:prstGeom>
          <a:ln w="0">
            <a:noFill/>
          </a:ln>
        </p:spPr>
      </p:pic>
      <p:sp>
        <p:nvSpPr>
          <p:cNvPr id="2" name="PlaceHolder 1"/>
          <p:cNvSpPr>
            <a:spLocks noGrp="1"/>
          </p:cNvSpPr>
          <p:nvPr>
            <p:ph type="sldNum" idx="1"/>
          </p:nvPr>
        </p:nvSpPr>
        <p:spPr/>
        <p:txBody>
          <a:bodyPr/>
          <a:p>
            <a:fld id="{1D26A64C-DE19-42E3-A471-DE5353A36C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79280" y="404640"/>
            <a:ext cx="4559400" cy="6064560"/>
          </a:xfrm>
          <a:prstGeom prst="rect">
            <a:avLst/>
          </a:prstGeom>
          <a:ln w="0">
            <a:noFill/>
          </a:ln>
        </p:spPr>
      </p:pic>
      <p:sp>
        <p:nvSpPr>
          <p:cNvPr id="222" name=""/>
          <p:cNvSpPr/>
          <p:nvPr/>
        </p:nvSpPr>
        <p:spPr>
          <a:xfrm>
            <a:off x="7667640" y="1413000"/>
            <a:ext cx="122400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is how it works</a:t>
            </a:r>
            <a:endParaRPr b="0" lang="en-US" sz="2400" spc="-1" strike="noStrike">
              <a:solidFill>
                <a:srgbClr val="006699"/>
              </a:solidFill>
              <a:latin typeface="Arial"/>
            </a:endParaRPr>
          </a:p>
        </p:txBody>
      </p:sp>
      <p:pic>
        <p:nvPicPr>
          <p:cNvPr id="223" name="" descr=""/>
          <p:cNvPicPr/>
          <p:nvPr/>
        </p:nvPicPr>
        <p:blipFill>
          <a:blip r:embed="rId2"/>
          <a:stretch/>
        </p:blipFill>
        <p:spPr>
          <a:xfrm>
            <a:off x="5003640" y="3429000"/>
            <a:ext cx="3743640" cy="3059280"/>
          </a:xfrm>
          <a:prstGeom prst="rect">
            <a:avLst/>
          </a:prstGeom>
          <a:ln w="0">
            <a:noFill/>
          </a:ln>
        </p:spPr>
      </p:pic>
      <p:pic>
        <p:nvPicPr>
          <p:cNvPr id="224" name="" descr=""/>
          <p:cNvPicPr/>
          <p:nvPr/>
        </p:nvPicPr>
        <p:blipFill>
          <a:blip r:embed="rId3"/>
          <a:stretch/>
        </p:blipFill>
        <p:spPr>
          <a:xfrm>
            <a:off x="4932360" y="115920"/>
            <a:ext cx="2541600" cy="3456000"/>
          </a:xfrm>
          <a:prstGeom prst="rect">
            <a:avLst/>
          </a:prstGeom>
          <a:ln w="0">
            <a:noFill/>
          </a:ln>
        </p:spPr>
      </p:pic>
      <p:sp>
        <p:nvSpPr>
          <p:cNvPr id="225" name=""/>
          <p:cNvSpPr/>
          <p:nvPr/>
        </p:nvSpPr>
        <p:spPr>
          <a:xfrm>
            <a:off x="1258920" y="5877000"/>
            <a:ext cx="3600360" cy="576360"/>
          </a:xfrm>
          <a:prstGeom prst="wedgeRoundRectCallout">
            <a:avLst>
              <a:gd name="adj1" fmla="val 137037"/>
              <a:gd name="adj2" fmla="val -16597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How hot does the water need to be to kill the bugs?</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32DA0459-E657-4585-AC4C-B1A008A7F7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68360" y="2421000"/>
            <a:ext cx="4029120" cy="3962160"/>
          </a:xfrm>
          <a:prstGeom prst="rect">
            <a:avLst/>
          </a:prstGeom>
          <a:ln w="0">
            <a:noFill/>
          </a:ln>
        </p:spPr>
      </p:pic>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Sun sometimes happy when it does its job. Why is the sun sometimes sad?</a:t>
            </a:r>
            <a:endParaRPr b="0" lang="en-US" sz="3600" spc="-1" strike="noStrike">
              <a:solidFill>
                <a:srgbClr val="006666"/>
              </a:solidFill>
              <a:latin typeface="Comic Sans MS"/>
            </a:endParaRPr>
          </a:p>
        </p:txBody>
      </p:sp>
      <p:pic>
        <p:nvPicPr>
          <p:cNvPr id="228" name="" descr=""/>
          <p:cNvPicPr/>
          <p:nvPr/>
        </p:nvPicPr>
        <p:blipFill>
          <a:blip r:embed="rId2"/>
          <a:stretch/>
        </p:blipFill>
        <p:spPr>
          <a:xfrm>
            <a:off x="3708360" y="1268280"/>
            <a:ext cx="5038920" cy="2800440"/>
          </a:xfrm>
          <a:prstGeom prst="rect">
            <a:avLst/>
          </a:prstGeom>
          <a:ln w="0">
            <a:noFill/>
          </a:ln>
        </p:spPr>
      </p:pic>
      <p:sp>
        <p:nvSpPr>
          <p:cNvPr id="3" name="PlaceHolder 2"/>
          <p:cNvSpPr>
            <a:spLocks noGrp="1"/>
          </p:cNvSpPr>
          <p:nvPr>
            <p:ph type="sldNum" idx="1"/>
          </p:nvPr>
        </p:nvSpPr>
        <p:spPr/>
        <p:txBody>
          <a:bodyPr/>
          <a:p>
            <a:fld id="{C9FFEA78-CB09-4CE3-A3AF-89A0BB62F9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ccess to Safe Water</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ccess to safe water is measured by the number of people who have clean water available as a percentage of the total populat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ans they have a reasonable means of getting an adequate amount of water that is safe for drinking, washing, and essential household activities.</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It reflects the health of a country’s people and the country’s capacity to collect, clean, and distribute water to consumer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8F9ECBE-74F6-4518-8D6E-306FDF8513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y is safe water so important?</a:t>
            </a:r>
            <a:endParaRPr b="1" lang="en-US" sz="4800" spc="-1" strike="noStrike">
              <a:solidFill>
                <a:srgbClr val="006666"/>
              </a:solidFill>
              <a:latin typeface="Comic Sans MS"/>
            </a:endParaRPr>
          </a:p>
        </p:txBody>
      </p:sp>
      <p:sp>
        <p:nvSpPr>
          <p:cNvPr id="23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How many of the different ideas can you remember?</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4B297CB-2974-422C-BD25-B7F536C2E5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32" name="PlaceHolder 2"/>
          <p:cNvSpPr>
            <a:spLocks noGrp="1"/>
          </p:cNvSpPr>
          <p:nvPr>
            <p:ph/>
          </p:nvPr>
        </p:nvSpPr>
        <p:spPr>
          <a:xfrm>
            <a:off x="-360" y="692280"/>
            <a:ext cx="8642520" cy="14414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a:t>
            </a:r>
            <a:r>
              <a:rPr b="0" lang="en-US" sz="2400" spc="-1" strike="noStrike" u="sng">
                <a:solidFill>
                  <a:srgbClr val="cc99ff"/>
                </a:solidFill>
                <a:uFillTx/>
                <a:latin typeface="Comic Sans MS"/>
                <a:hlinkClick r:id="rId2"/>
              </a:rPr>
              <a:t>http://akvo.org/wiki/index.php/Portal:Water</a:t>
            </a:r>
            <a:r>
              <a:rPr b="0" lang="en-US" sz="2400" spc="-1" strike="noStrike" u="sng">
                <a:solidFill>
                  <a:srgbClr val="006699"/>
                </a:solidFill>
                <a:uFillTx/>
                <a:latin typeface="Comic Sans MS"/>
              </a:rPr>
              <a: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lick on one that interests you. Say briefly how it works, the advantages and disadvantages, what it good for and how much it costs – BRIEF!</a:t>
            </a:r>
            <a:endParaRPr b="0" lang="en-US" sz="2400" spc="-1" strike="noStrike">
              <a:solidFill>
                <a:srgbClr val="006699"/>
              </a:solidFill>
              <a:latin typeface="Comic Sans MS"/>
            </a:endParaRPr>
          </a:p>
        </p:txBody>
      </p:sp>
      <p:pic>
        <p:nvPicPr>
          <p:cNvPr id="233" name="" descr=""/>
          <p:cNvPicPr/>
          <p:nvPr/>
        </p:nvPicPr>
        <p:blipFill>
          <a:blip r:embed="rId4"/>
          <a:srcRect l="22691" t="30599" r="12353" b="0"/>
          <a:stretch/>
        </p:blipFill>
        <p:spPr>
          <a:xfrm>
            <a:off x="2195640" y="2271600"/>
            <a:ext cx="5688000" cy="4397400"/>
          </a:xfrm>
          <a:prstGeom prst="rect">
            <a:avLst/>
          </a:prstGeom>
          <a:ln w="0">
            <a:noFill/>
          </a:ln>
        </p:spPr>
      </p:pic>
      <p:sp>
        <p:nvSpPr>
          <p:cNvPr id="4" name="PlaceHolder 3"/>
          <p:cNvSpPr>
            <a:spLocks noGrp="1"/>
          </p:cNvSpPr>
          <p:nvPr>
            <p:ph type="sldNum" idx="1"/>
          </p:nvPr>
        </p:nvSpPr>
        <p:spPr/>
        <p:txBody>
          <a:bodyPr/>
          <a:p>
            <a:fld id="{1F510618-A2FB-4961-8BBA-8CA9BBF1E80D}"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ere are the figures</a:t>
            </a:r>
            <a:endParaRPr b="0" lang="en-US" sz="4000" spc="-1" strike="noStrike">
              <a:solidFill>
                <a:srgbClr val="006666"/>
              </a:solidFill>
              <a:latin typeface="Comic Sans MS"/>
            </a:endParaRPr>
          </a:p>
        </p:txBody>
      </p:sp>
      <p:pic>
        <p:nvPicPr>
          <p:cNvPr id="170" name="" descr=""/>
          <p:cNvPicPr/>
          <p:nvPr/>
        </p:nvPicPr>
        <p:blipFill>
          <a:blip r:embed="rId1"/>
          <a:stretch/>
        </p:blipFill>
        <p:spPr>
          <a:xfrm>
            <a:off x="395280" y="836640"/>
            <a:ext cx="8748720" cy="4375080"/>
          </a:xfrm>
          <a:prstGeom prst="rect">
            <a:avLst/>
          </a:prstGeom>
          <a:ln w="0">
            <a:noFill/>
          </a:ln>
        </p:spPr>
      </p:pic>
      <p:sp>
        <p:nvSpPr>
          <p:cNvPr id="171" name=""/>
          <p:cNvSpPr/>
          <p:nvPr/>
        </p:nvSpPr>
        <p:spPr>
          <a:xfrm>
            <a:off x="395280" y="537372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lot of places that do not have actual data have almost universally available fresh water – although not all!</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929B251A-DFE8-4134-BB82-16852B0C23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ater is essential for life, yet in 1995, more than one billion people in low- and middle-income countries—and an additional 50 million people in high-income countries—lacked access to safe water for drinking, personal hygiene and domestic us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about 2 billion to not have adequate sanitation facilities</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4A22DBE8-0121-4261-919E-F5D190335C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4"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afe water includes treated surface water, as well as untreated but uncontaminated water from sources such as natural springs and sanitary well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average, a person needs about 20 litres of safe water each day to meet his or her metabolic, hygienic, and domestic need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safe water, people cannot lead healthy, productive lives.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6943B69-8579-4422-8969-0036B69A63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For example, an estimated 900 million people suffer—and approximately 2 million die—from water-related diarrhoeal illnesses each year.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ost, but not all, of these people live in low- and middle-income countries, and those at greatest risk are children and the elderly.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illions more people worldwide suffer from other water-related diseases, such as bilharzia, cholera, elephantiasis, and hookworm.</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7021DDF-0F39-4E4C-A4F7-11ACFE5BA6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hat is "safe" water and why is it important?</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412640"/>
            <a:ext cx="8642160" cy="3671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provements in water supply and sanitation tend to lead to improvements in people’s health and the quality of their liv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hart shows the results of improvements in water and sanitation service upon the life expectancy of people in three French cities during the 19th centur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roughout history, when people have had an adequate supply of safe water and have been able to practice good hygiene, they have been healthier and have had a better chance of living longer.</a:t>
            </a:r>
            <a:endParaRPr b="0" lang="en-US" sz="2400" spc="-1" strike="noStrike">
              <a:solidFill>
                <a:srgbClr val="006699"/>
              </a:solidFill>
              <a:latin typeface="Comic Sans MS"/>
            </a:endParaRPr>
          </a:p>
        </p:txBody>
      </p:sp>
      <p:pic>
        <p:nvPicPr>
          <p:cNvPr id="179" name="" descr=""/>
          <p:cNvPicPr/>
          <p:nvPr/>
        </p:nvPicPr>
        <p:blipFill>
          <a:blip r:embed="rId4"/>
          <a:stretch/>
        </p:blipFill>
        <p:spPr>
          <a:xfrm>
            <a:off x="4284720" y="4581360"/>
            <a:ext cx="3878280" cy="2041560"/>
          </a:xfrm>
          <a:prstGeom prst="rect">
            <a:avLst/>
          </a:prstGeom>
          <a:ln w="0">
            <a:noFill/>
          </a:ln>
        </p:spPr>
      </p:pic>
      <p:sp>
        <p:nvSpPr>
          <p:cNvPr id="4" name="PlaceHolder 3"/>
          <p:cNvSpPr>
            <a:spLocks noGrp="1"/>
          </p:cNvSpPr>
          <p:nvPr>
            <p:ph type="sldNum" idx="1"/>
          </p:nvPr>
        </p:nvSpPr>
        <p:spPr/>
        <p:txBody>
          <a:bodyPr/>
          <a:p>
            <a:fld id="{ADC71564-6A54-4CAC-88DA-DB94F29F1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50920" y="3860280"/>
            <a:ext cx="8642160" cy="2737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hart suggests a relationship between life expectancy and improvements in water supply and sanitation in three French cities from 1820–1900.</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What is that relationship?</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ngs began to improve in Marseilles before the water treatment was put in – what else could have improved the life expectancy?</a:t>
            </a:r>
            <a:endParaRPr b="0" lang="en-US" sz="2400" spc="-1" strike="noStrike">
              <a:solidFill>
                <a:srgbClr val="006699"/>
              </a:solidFill>
              <a:latin typeface="Comic Sans MS"/>
            </a:endParaRPr>
          </a:p>
        </p:txBody>
      </p:sp>
      <p:pic>
        <p:nvPicPr>
          <p:cNvPr id="181" name="" descr=""/>
          <p:cNvPicPr/>
          <p:nvPr/>
        </p:nvPicPr>
        <p:blipFill>
          <a:blip r:embed="rId4"/>
          <a:stretch/>
        </p:blipFill>
        <p:spPr>
          <a:xfrm>
            <a:off x="2050920" y="981000"/>
            <a:ext cx="5472360" cy="2879640"/>
          </a:xfrm>
          <a:prstGeom prst="rect">
            <a:avLst/>
          </a:prstGeom>
          <a:ln w="0">
            <a:noFill/>
          </a:ln>
        </p:spPr>
      </p:pic>
      <p:sp>
        <p:nvSpPr>
          <p:cNvPr id="182"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Life Expectancy and Improvements in Water Supply and Sanitation in Three French Cities, 1820-1900</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4" name="PlaceHolder 3"/>
          <p:cNvSpPr>
            <a:spLocks noGrp="1"/>
          </p:cNvSpPr>
          <p:nvPr>
            <p:ph type="sldNum" idx="1"/>
          </p:nvPr>
        </p:nvSpPr>
        <p:spPr/>
        <p:txBody>
          <a:bodyPr/>
          <a:p>
            <a:fld id="{D958D6D2-3241-4406-B1CD-50846467F2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1:05:49Z</dcterms:created>
  <dc:creator>Lindy</dc:creator>
  <dc:description/>
  <dc:language>en-US</dc:language>
  <cp:lastModifiedBy>Lindy</cp:lastModifiedBy>
  <dcterms:modified xsi:type="dcterms:W3CDTF">2009-11-28T14:05:04Z</dcterms:modified>
  <cp:revision>10</cp:revision>
  <dc:subject/>
  <dc:title>Sustainable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